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7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11.wmf" ContentType="image/x-wmf"/>
  <Override PartName="/ppt/media/image10.wmf" ContentType="image/x-wmf"/>
  <Override PartName="/ppt/media/image2.png" ContentType="image/png"/>
  <Override PartName="/ppt/media/TADA.WAV" ContentType="audio/x-wav"/>
  <Override PartName="/ppt/media/whoosh.wav" ContentType="audio/x-wav"/>
  <Override PartName="/ppt/media/image13.wmf" ContentType="image/x-wmf"/>
  <Override PartName="/ppt/media/projctor.wav" ContentType="audio/x-wav"/>
  <Override PartName="/ppt/media/image8.wmf" ContentType="image/x-wmf"/>
  <Override PartName="/ppt/media/drumrol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1660-3AE3-4AB5-94AC-0BB147E8D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BA8-5EC0-4180-9F36-27BF5EB3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2C85-E411-4F96-90D0-70F6C5C39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BB8-6A9B-4B6D-8348-3BC888A8A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6614-08BF-4B77-BD77-0B18CBAE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B29F-123F-4BEF-9A28-9B7B42471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536-C770-47B3-BDBD-F8C9272EA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38DA-1F91-4859-BFE9-D21845B44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AF12-8C5F-4868-8101-6015BFB5B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1658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1658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658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PFiles\MSOffice\Clipart\WebArt\bd15055_.gif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Pegas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Pegas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Pegas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pic>
        <p:nvPicPr>
          <p:cNvPr id="3" name="Picture 5" descr="C:\Program Files\Common Files\Microsoft Shared\Clipart\themes1\lines\bd15073_.gif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Text Box 6"/>
          <p:cNvSpPr/>
          <p:nvPr/>
        </p:nvSpPr>
        <p:spPr>
          <a:xfrm>
            <a:off x="7696080" y="6400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B8C5-8778-4099-A5EF-5E5450B9A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../media/projctor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egasus"/>
              </a:rPr>
              <a:t>El Presente Progresivo</a:t>
            </a:r>
            <a:endParaRPr b="1" lang="en-US" sz="60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¿Qué estás haciendo </a:t>
            </a:r>
            <a:r>
              <a:rPr b="1" i="1" lang="en-US" sz="3200" spc="-1" strike="noStrike">
                <a:solidFill>
                  <a:srgbClr val="ff0000"/>
                </a:solidFill>
                <a:latin typeface="Pegasus"/>
              </a:rPr>
              <a:t>ahora mismo</a:t>
            </a:r>
            <a:r>
              <a:rPr b="1" lang="en-US" sz="32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Pegasus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22" name="Group 19"/>
          <p:cNvGrpSpPr/>
          <p:nvPr/>
        </p:nvGrpSpPr>
        <p:grpSpPr>
          <a:xfrm>
            <a:off x="6629400" y="1295280"/>
            <a:ext cx="1438200" cy="1796400"/>
            <a:chOff x="6629400" y="1295280"/>
            <a:chExt cx="1438200" cy="1796400"/>
          </a:xfrm>
        </p:grpSpPr>
        <p:pic>
          <p:nvPicPr>
            <p:cNvPr id="123" name="Picture 13" descr="c:\Program Files\Microsoft Office\Clipart\standard\stddir1\bd06919_.wmf"/>
            <p:cNvPicPr/>
            <p:nvPr/>
          </p:nvPicPr>
          <p:blipFill>
            <a:blip r:embed="rId1"/>
            <a:stretch/>
          </p:blipFill>
          <p:spPr>
            <a:xfrm>
              <a:off x="6629400" y="1295280"/>
              <a:ext cx="1438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6"/>
            <p:cNvSpPr/>
            <p:nvPr/>
          </p:nvSpPr>
          <p:spPr>
            <a:xfrm>
              <a:off x="6711480" y="26319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20"/>
          <p:cNvGrpSpPr/>
          <p:nvPr/>
        </p:nvGrpSpPr>
        <p:grpSpPr>
          <a:xfrm>
            <a:off x="533520" y="3048120"/>
            <a:ext cx="1752480" cy="1983600"/>
            <a:chOff x="533520" y="3048120"/>
            <a:chExt cx="1752480" cy="1983600"/>
          </a:xfrm>
        </p:grpSpPr>
        <p:pic>
          <p:nvPicPr>
            <p:cNvPr id="126" name="Picture 11" descr="c:\Program Files\Microsoft Office\Clipart\standard\stddir1\bd05507_.wmf"/>
            <p:cNvPicPr/>
            <p:nvPr/>
          </p:nvPicPr>
          <p:blipFill>
            <a:blip r:embed="rId2"/>
            <a:stretch/>
          </p:blipFill>
          <p:spPr>
            <a:xfrm>
              <a:off x="533520" y="3048120"/>
              <a:ext cx="17524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7"/>
            <p:cNvSpPr/>
            <p:nvPr/>
          </p:nvSpPr>
          <p:spPr>
            <a:xfrm>
              <a:off x="991080" y="4572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21"/>
          <p:cNvGrpSpPr/>
          <p:nvPr/>
        </p:nvGrpSpPr>
        <p:grpSpPr>
          <a:xfrm>
            <a:off x="6781680" y="4572000"/>
            <a:ext cx="1285920" cy="1983600"/>
            <a:chOff x="6781680" y="4572000"/>
            <a:chExt cx="1285920" cy="1983600"/>
          </a:xfrm>
        </p:grpSpPr>
        <p:pic>
          <p:nvPicPr>
            <p:cNvPr id="129" name="Picture 15" descr="c:\Program Files\Microsoft Office\Clipart\standard\stddir4\pe02603_.wmf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128592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8"/>
            <p:cNvSpPr/>
            <p:nvPr/>
          </p:nvSpPr>
          <p:spPr>
            <a:xfrm>
              <a:off x="717984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22"/>
          <p:cNvSpPr/>
          <p:nvPr/>
        </p:nvSpPr>
        <p:spPr>
          <a:xfrm>
            <a:off x="3582000" y="1766880"/>
            <a:ext cx="27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amos viv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953440" y="3505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n bai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4379400" y="5105520"/>
            <a:ext cx="22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s jug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l fút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762120" y="1371600"/>
            <a:ext cx="1371600" cy="1872720"/>
            <a:chOff x="762120" y="1371600"/>
            <a:chExt cx="1371600" cy="1872720"/>
          </a:xfrm>
        </p:grpSpPr>
        <p:pic>
          <p:nvPicPr>
            <p:cNvPr id="136" name="Picture 2" descr="c:\Program Files\Microsoft Office\Clipart\standard\stddir3\pe01705_.wmf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1371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1280880" y="27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11"/>
          <p:cNvGrpSpPr/>
          <p:nvPr/>
        </p:nvGrpSpPr>
        <p:grpSpPr>
          <a:xfrm>
            <a:off x="6705720" y="3048120"/>
            <a:ext cx="1366560" cy="1983600"/>
            <a:chOff x="6705720" y="3048120"/>
            <a:chExt cx="1366560" cy="1983600"/>
          </a:xfrm>
        </p:grpSpPr>
        <p:pic>
          <p:nvPicPr>
            <p:cNvPr id="139" name="Picture 4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6705720" y="3048120"/>
              <a:ext cx="1366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7244280" y="45720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685800" y="4724280"/>
            <a:ext cx="1523880" cy="1755360"/>
            <a:chOff x="685800" y="4724280"/>
            <a:chExt cx="1523880" cy="1755360"/>
          </a:xfrm>
        </p:grpSpPr>
        <p:pic>
          <p:nvPicPr>
            <p:cNvPr id="142" name="Picture 3" descr="c:\Program Files\Microsoft Office\Clipart\standard\stddir1\bd07178_.wmf"/>
            <p:cNvPicPr/>
            <p:nvPr/>
          </p:nvPicPr>
          <p:blipFill>
            <a:blip r:embed="rId3"/>
            <a:stretch/>
          </p:blipFill>
          <p:spPr>
            <a:xfrm>
              <a:off x="685800" y="4724280"/>
              <a:ext cx="152388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9"/>
            <p:cNvSpPr/>
            <p:nvPr/>
          </p:nvSpPr>
          <p:spPr>
            <a:xfrm>
              <a:off x="858240" y="6019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426040" y="17668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b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094640" y="350532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446920" y="537840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0"/>
          <p:cNvGrpSpPr/>
          <p:nvPr/>
        </p:nvGrpSpPr>
        <p:grpSpPr>
          <a:xfrm>
            <a:off x="762120" y="1371600"/>
            <a:ext cx="1371600" cy="1872720"/>
            <a:chOff x="762120" y="1371600"/>
            <a:chExt cx="1371600" cy="1872720"/>
          </a:xfrm>
        </p:grpSpPr>
        <p:pic>
          <p:nvPicPr>
            <p:cNvPr id="149" name="Picture 2" descr="c:\Program Files\Microsoft Office\Clipart\standard\stddir3\pe01705_.wmf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1371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7"/>
            <p:cNvSpPr/>
            <p:nvPr/>
          </p:nvSpPr>
          <p:spPr>
            <a:xfrm>
              <a:off x="1280880" y="2784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1"/>
          <p:cNvGrpSpPr/>
          <p:nvPr/>
        </p:nvGrpSpPr>
        <p:grpSpPr>
          <a:xfrm>
            <a:off x="6705720" y="3048120"/>
            <a:ext cx="1366560" cy="1983600"/>
            <a:chOff x="6705720" y="3048120"/>
            <a:chExt cx="1366560" cy="1983600"/>
          </a:xfrm>
        </p:grpSpPr>
        <p:pic>
          <p:nvPicPr>
            <p:cNvPr id="152" name="Picture 4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6705720" y="3048120"/>
              <a:ext cx="1366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8"/>
            <p:cNvSpPr/>
            <p:nvPr/>
          </p:nvSpPr>
          <p:spPr>
            <a:xfrm>
              <a:off x="7244280" y="4572000"/>
              <a:ext cx="6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85800" y="4724280"/>
            <a:ext cx="1523880" cy="1755360"/>
            <a:chOff x="685800" y="4724280"/>
            <a:chExt cx="1523880" cy="1755360"/>
          </a:xfrm>
        </p:grpSpPr>
        <p:pic>
          <p:nvPicPr>
            <p:cNvPr id="155" name="Picture 3" descr="c:\Program Files\Microsoft Office\Clipart\standard\stddir1\bd07178_.wmf"/>
            <p:cNvPicPr/>
            <p:nvPr/>
          </p:nvPicPr>
          <p:blipFill>
            <a:blip r:embed="rId3"/>
            <a:stretch/>
          </p:blipFill>
          <p:spPr>
            <a:xfrm>
              <a:off x="685800" y="4724280"/>
              <a:ext cx="152388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9"/>
            <p:cNvSpPr/>
            <p:nvPr/>
          </p:nvSpPr>
          <p:spPr>
            <a:xfrm>
              <a:off x="858240" y="601992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420280" y="176688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oy habl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89600" y="350532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 com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439720" y="537840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táis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 Presente Progre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10696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079000" y="2209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224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838080" y="1676520"/>
            <a:ext cx="7239240" cy="685800"/>
            <a:chOff x="838080" y="1676520"/>
            <a:chExt cx="7239240" cy="685800"/>
          </a:xfrm>
        </p:grpSpPr>
        <p:sp>
          <p:nvSpPr>
            <p:cNvPr id="55" name="Line 3"/>
            <p:cNvSpPr/>
            <p:nvPr/>
          </p:nvSpPr>
          <p:spPr>
            <a:xfrm>
              <a:off x="838080" y="2057400"/>
              <a:ext cx="72392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4"/>
            <p:cNvSpPr/>
            <p:nvPr/>
          </p:nvSpPr>
          <p:spPr>
            <a:xfrm>
              <a:off x="838080" y="1752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4572000" y="1676520"/>
              <a:ext cx="167652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5257080" y="1905120"/>
            <a:ext cx="305280" cy="304560"/>
            <a:chOff x="5257080" y="1905120"/>
            <a:chExt cx="305280" cy="304560"/>
          </a:xfrm>
        </p:grpSpPr>
        <p:sp>
          <p:nvSpPr>
            <p:cNvPr id="59" name="Line 12"/>
            <p:cNvSpPr/>
            <p:nvPr/>
          </p:nvSpPr>
          <p:spPr>
            <a:xfrm flipH="1">
              <a:off x="525744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5257080" y="1905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Rectangle 16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rogress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scribes an action that is in proces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t the mo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 are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913480" y="5635800"/>
            <a:ext cx="333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¡ahora mis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¿Cómo lo </a:t>
            </a:r>
            <a:r>
              <a:rPr b="1" i="1" lang="en-US" sz="4400" spc="-1" strike="noStrike">
                <a:solidFill>
                  <a:srgbClr val="000000"/>
                </a:solidFill>
                <a:latin typeface="Pegasus"/>
              </a:rPr>
              <a:t>formamos</a:t>
            </a: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410080" y="441972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r/-i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619640" y="1362240"/>
            <a:ext cx="585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verb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 tense forms o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sent Partici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main ve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gerund / gerund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5"/>
          <p:cNvGrpSpPr/>
          <p:nvPr/>
        </p:nvGrpSpPr>
        <p:grpSpPr>
          <a:xfrm>
            <a:off x="1298160" y="4495680"/>
            <a:ext cx="3524400" cy="1191240"/>
            <a:chOff x="1298160" y="4495680"/>
            <a:chExt cx="3524400" cy="1191240"/>
          </a:xfrm>
        </p:grpSpPr>
        <p:sp>
          <p:nvSpPr>
            <p:cNvPr id="67" name="Text Box 13"/>
            <p:cNvSpPr/>
            <p:nvPr/>
          </p:nvSpPr>
          <p:spPr>
            <a:xfrm>
              <a:off x="1298160" y="4495680"/>
              <a:ext cx="21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oy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a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st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4323240" y="472428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Participio presente = </a:t>
            </a:r>
            <a:r>
              <a:rPr b="1" i="1" lang="en-US" sz="4400" spc="-1" strike="noStrike">
                <a:solidFill>
                  <a:srgbClr val="ff0000"/>
                </a:solidFill>
                <a:latin typeface="Pegasus"/>
              </a:rPr>
              <a:t>-ing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70" name="Group 32"/>
          <p:cNvGrpSpPr/>
          <p:nvPr/>
        </p:nvGrpSpPr>
        <p:grpSpPr>
          <a:xfrm>
            <a:off x="1523160" y="1260360"/>
            <a:ext cx="6041880" cy="4988160"/>
            <a:chOff x="1523160" y="1260360"/>
            <a:chExt cx="6041880" cy="4988160"/>
          </a:xfrm>
        </p:grpSpPr>
        <p:sp>
          <p:nvSpPr>
            <p:cNvPr id="71" name="Text Box 15"/>
            <p:cNvSpPr/>
            <p:nvPr/>
          </p:nvSpPr>
          <p:spPr>
            <a:xfrm>
              <a:off x="1523160" y="1260360"/>
              <a:ext cx="604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iv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ticip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>
              <a:off x="4572000" y="1371600"/>
              <a:ext cx="0" cy="487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8"/>
          <p:cNvSpPr/>
          <p:nvPr/>
        </p:nvSpPr>
        <p:spPr>
          <a:xfrm>
            <a:off x="1739880" y="1870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193080" y="1905120"/>
            <a:ext cx="12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754280" y="2479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165720" y="251460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1846440" y="31240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232680" y="3159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653840" y="37749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6105600" y="38098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1737360" y="4384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076440" y="4419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1821240" y="499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158520" y="502920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1584360" y="5527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5883120" y="55627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En inglés o en español?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9480" y="129528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nglish you can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am 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ight 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 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ork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m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66680" y="2438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this.  The progressive in Spanish is ONLY used to describe an action that is in process at the moment we are talking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hora m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00200" y="3778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panish we can use the expression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fer to the near futur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493360" y="5181480"/>
            <a:ext cx="41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oy trabaj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hora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069360" y="586728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oy a traba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 ejemplo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00200" y="370512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rib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t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és y Alic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bur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y y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m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g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las car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57400" y="2909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io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c:\Program Files\Microsoft Office\Clipart\corpbas\bd19693_.wmf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120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:\Program Files\Microsoft Office\Clipart\standard\stddir3\pe01709_.wmf"/>
          <p:cNvPicPr/>
          <p:nvPr/>
        </p:nvPicPr>
        <p:blipFill>
          <a:blip r:embed="rId2"/>
          <a:stretch/>
        </p:blipFill>
        <p:spPr>
          <a:xfrm>
            <a:off x="0" y="525780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ás ejemplos…: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00200" y="274320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nda y su bebé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mie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l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Vosotr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udi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o en este ex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amigo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laman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teléf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ié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bl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cl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143000" y="1447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ways necessary to use the verb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iend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ain (action)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c:\Program Files\Microsoft Office\Clipart\standard\stddir4\pe02553_.wmf"/>
          <p:cNvPicPr/>
          <p:nvPr/>
        </p:nvPicPr>
        <p:blipFill>
          <a:blip r:embed="rId1"/>
          <a:stretch/>
        </p:blipFill>
        <p:spPr>
          <a:xfrm>
            <a:off x="7772400" y="52578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Program Files\Microsoft Office\Clipart\standard\stddir1\bd05558_.wmf"/>
          <p:cNvPicPr/>
          <p:nvPr/>
        </p:nvPicPr>
        <p:blipFill>
          <a:blip r:embed="rId2"/>
          <a:stretch/>
        </p:blipFill>
        <p:spPr>
          <a:xfrm>
            <a:off x="111240" y="5334120"/>
            <a:ext cx="1120680" cy="13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Verbos irregulare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057400" y="2085840"/>
            <a:ext cx="2209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876920" y="2085840"/>
            <a:ext cx="2438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m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c:\Program Files\Microsoft Office\Clipart\standard\stddir2\bs02010_.wmf"/>
          <p:cNvPicPr/>
          <p:nvPr/>
        </p:nvPicPr>
        <p:blipFill>
          <a:blip r:embed="rId1"/>
          <a:stretch/>
        </p:blipFill>
        <p:spPr>
          <a:xfrm>
            <a:off x="228600" y="1219320"/>
            <a:ext cx="1365120" cy="15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Program Files\Microsoft Office\Clipart\corpbas\j0079190.wmf"/>
          <p:cNvPicPr/>
          <p:nvPr/>
        </p:nvPicPr>
        <p:blipFill>
          <a:blip r:embed="rId2"/>
          <a:stretch/>
        </p:blipFill>
        <p:spPr>
          <a:xfrm>
            <a:off x="7772400" y="1143000"/>
            <a:ext cx="115236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3" name="projctor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gasus"/>
              </a:rPr>
              <a:t>Ahora les toca a Uds…</a:t>
            </a:r>
            <a:endParaRPr b="1" lang="en-US" sz="4400" spc="-1" strike="noStrike">
              <a:solidFill>
                <a:srgbClr val="000000"/>
              </a:solidFill>
              <a:latin typeface="Pegasus"/>
            </a:endParaRPr>
          </a:p>
        </p:txBody>
      </p:sp>
      <p:grpSp>
        <p:nvGrpSpPr>
          <p:cNvPr id="109" name="Group 19"/>
          <p:cNvGrpSpPr/>
          <p:nvPr/>
        </p:nvGrpSpPr>
        <p:grpSpPr>
          <a:xfrm>
            <a:off x="6629400" y="1295280"/>
            <a:ext cx="1438200" cy="1796400"/>
            <a:chOff x="6629400" y="1295280"/>
            <a:chExt cx="1438200" cy="1796400"/>
          </a:xfrm>
        </p:grpSpPr>
        <p:pic>
          <p:nvPicPr>
            <p:cNvPr id="110" name="Picture 13" descr="c:\Program Files\Microsoft Office\Clipart\standard\stddir1\bd06919_.wmf"/>
            <p:cNvPicPr/>
            <p:nvPr/>
          </p:nvPicPr>
          <p:blipFill>
            <a:blip r:embed="rId1"/>
            <a:stretch/>
          </p:blipFill>
          <p:spPr>
            <a:xfrm>
              <a:off x="6629400" y="1295280"/>
              <a:ext cx="14382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/>
            <p:cNvSpPr/>
            <p:nvPr/>
          </p:nvSpPr>
          <p:spPr>
            <a:xfrm>
              <a:off x="6711480" y="26319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so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20"/>
          <p:cNvGrpSpPr/>
          <p:nvPr/>
        </p:nvGrpSpPr>
        <p:grpSpPr>
          <a:xfrm>
            <a:off x="533520" y="3048120"/>
            <a:ext cx="1752480" cy="1983600"/>
            <a:chOff x="533520" y="3048120"/>
            <a:chExt cx="1752480" cy="1983600"/>
          </a:xfrm>
        </p:grpSpPr>
        <p:pic>
          <p:nvPicPr>
            <p:cNvPr id="113" name="Picture 11" descr="c:\Program Files\Microsoft Office\Clipart\standard\stddir1\bd05507_.wmf"/>
            <p:cNvPicPr/>
            <p:nvPr/>
          </p:nvPicPr>
          <p:blipFill>
            <a:blip r:embed="rId2"/>
            <a:stretch/>
          </p:blipFill>
          <p:spPr>
            <a:xfrm>
              <a:off x="533520" y="3048120"/>
              <a:ext cx="17524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7"/>
            <p:cNvSpPr/>
            <p:nvPr/>
          </p:nvSpPr>
          <p:spPr>
            <a:xfrm>
              <a:off x="991080" y="457200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6781680" y="4572000"/>
            <a:ext cx="1285920" cy="1983600"/>
            <a:chOff x="6781680" y="4572000"/>
            <a:chExt cx="1285920" cy="1983600"/>
          </a:xfrm>
        </p:grpSpPr>
        <p:pic>
          <p:nvPicPr>
            <p:cNvPr id="116" name="Picture 15" descr="c:\Program Files\Microsoft Office\Clipart\standard\stddir4\pe02603_.wmf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128592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8"/>
            <p:cNvSpPr/>
            <p:nvPr/>
          </p:nvSpPr>
          <p:spPr>
            <a:xfrm>
              <a:off x="7179840" y="6095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22"/>
          <p:cNvSpPr/>
          <p:nvPr/>
        </p:nvSpPr>
        <p:spPr>
          <a:xfrm>
            <a:off x="5504040" y="17668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i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958120" y="350532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389120" y="510552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l fút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4" name="projctor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5:59:45Z</dcterms:created>
  <dc:creator>Jaime E Olalde</dc:creator>
  <dc:description/>
  <dc:language>en-US</dc:language>
  <cp:lastModifiedBy>Windows User</cp:lastModifiedBy>
  <dcterms:modified xsi:type="dcterms:W3CDTF">2014-01-30T16:37:01Z</dcterms:modified>
  <cp:revision>96</cp:revision>
  <dc:subject>Español 101</dc:subject>
  <dc:title>Presente Progresivo</dc:title>
</cp:coreProperties>
</file>